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camera.wav" ContentType="audio/x-wav"/>
  <Override PartName="/ppt/media/image19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4.jpeg" ContentType="image/jpeg"/>
  <Override PartName="/ppt/media/image17.png" ContentType="image/png"/>
  <Override PartName="/ppt/media/image14.gif" ContentType="image/gif"/>
  <Override PartName="/ppt/media/image2.jpeg" ContentType="image/jpeg"/>
  <Override PartName="/ppt/media/image3.png" ContentType="image/png"/>
  <Override PartName="/ppt/media/image18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7FA-1D1E-4BFA-958E-A45493D0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A62-E0EC-4359-8810-7E51EFB6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838-8113-41E7-9286-BFEE2528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85E-3342-443A-9FD8-90BB8779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898-A119-4B72-A182-FACF4D7D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30BE-CCAC-4B66-80E3-16A869FD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A22D-7659-4229-84B1-20831707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E5F-3E2C-4024-8F3C-8576F461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026-61B9-4B5B-8695-F0EC6CF1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12B5-E71B-4F9F-94D9-C2BE6CA3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AD71-7115-4604-B4E5-5A001040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7C45-CB0D-4262-BEBD-879101A2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D05D-1498-4A83-81B7-D6EE768927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gif"/><Relationship Id="rId1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audio" Target="file:///tmp/home/.config/libreoffice/4/user/gallery/camera.wav" TargetMode="External"/><Relationship Id="rId4" Type="http://schemas.microsoft.com/office/2007/relationships/media" Target="file:///tmp/home/.config/libreoffice/4/user/gallery/camera.wav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ed2bc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79280" y="5373720"/>
            <a:ext cx="5791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殷夫中学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303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班主题班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692280"/>
            <a:ext cx="815328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宋体"/>
              </a:rPr>
              <a:t>团结、尊重、合作、 </a:t>
            </a:r>
            <a:endParaRPr b="0" i="1" lang="en-US" sz="80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371240" y="762120"/>
            <a:ext cx="7620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俗话说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没有土壤，泰山不能成其大；没有细流，河海不能就其深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高楼大厦是由一砖一石砌成，集体由一个个的个人组成，个人组成集体，集体有力量，可是这要依赖每一个人的力量汇集而成；集体有智慧，可是这智慧要依赖每一个人的聪明才智。集体是温暖的大家庭，这温暖也同样来源于每个成员献出的爱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971640" y="404280"/>
            <a:ext cx="76197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a0ebe"/>
                </a:solidFill>
                <a:latin typeface="宋体"/>
              </a:rPr>
              <a:t>一根筷子轻轻一折就会被折断，十根筷子牢牢抱成团。个人不能脱离集体</a:t>
            </a:r>
            <a:r>
              <a:rPr b="1" lang="en-US" sz="3200" spc="-1" strike="noStrike">
                <a:solidFill>
                  <a:srgbClr val="0a0ebe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a0ebe"/>
                </a:solidFill>
                <a:latin typeface="宋体"/>
              </a:rPr>
              <a:t>集体需要每个人的支持。这正如滴水与大海；二者辅车相依，缺一不可。良好的集体就像一个温暖的大家庭，能给人以关心和帮助。是每个成员获得战胜困难和挫折的信心和力量的源泉；良好的集体是陶冶个人情操和品格的熔炉，是人们之间建立、发展和巩固纯真友谊的桥梁和纽带；良好的集体更是个人成才、全面发展的良好环境和基本条件，是个人聪明才智施展的活动舞台和广阔天地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-45864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_x000b__x000c_"/>
                <a:ea typeface="华文新魏"/>
              </a:rPr>
              <a:t>班主任的发言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团结、尊重、合作”这句耳熟能详的话对一个班集体而言是非常重要的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学间的互助互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是班级这个大家庭必不可少的一点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其实，只要每一个人献出一份爱心，拥有一份真心，拿出一份热心，就可以造就一份温暖——温暖自己、温暖别人、温暖集体。热爱自己的集体，是每一个在这个集体的人应尽的义务；真诚地接受集体中的每一个成员，是履行这项义务的基础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别人有了困难，应该义不容辞地去帮助他；要有集体荣誉感，肯为班作贡献。当班被学校表扬时，我们应该感到光荣，继续努力；当班被学校批评时，我们应感到羞耻，自我检讨，改正错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集体服务、为集体争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会使班集体团结得到升华。同学们要乐意为班集体服务，才有可能争光。如果一个学生眼里没有自己的班集体，只爱顾着自己的事，对做出损害班集体荣誉的事毫不在乎，为班集体干点事觉得吃亏……说到底也是自私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889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希望我们班的同学们剔除自私心，用一颗真诚的心爱着自己的班集体，让这盘沙凝聚起来！ 　　　　　　　　　　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 相互尊重、加强合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我们再去歧视同学，那么我们就不会有一个团结友爱的集体，我们就不会再一起进步，我们能同在一个班集体，这是我们的缘分。我们应该珍惜这份缘分，珍惜这份友谊。我们应该团结互助，一起努力向前！让所有人都知道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班是一个团结的大家庭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集体是大众力量的凝聚，集体是聪明才智的结晶，集体的成败取决于每一个个体。我们只有热爱集体，团结合作才能发挥自己的作用。 我们班才有凝聚力，否则班级就是一盘散沙，风一吹就散了。所以，从你做起，从我做起，伸出你充满爱心的双手，关心帮助班中需要帮助的同学，并为集体的荣耀争一口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和谐的集体靠大家共同建立，我们大家都是好朋友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　　　　　　　　　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1066680"/>
            <a:ext cx="81532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马克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有在集体中，个性才能获得全面发展其才能的手段”，“一个人的发展取决于和他直接或间接进行交往的其他一切人的发展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心理学家勒温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人的行为是个性与环境中各种力量相互作用的结果，班级集体是学生个性所处环境，情景力场，它影响着学生的行为及个性心理特征、道德规范和行为准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教育家马卡连柯：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当我们给个人一种影响的时候，而这影响必定同时应当是给予集体的一种影响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_x000b__x000c_"/>
                <a:ea typeface="华文新魏"/>
              </a:rPr>
              <a:t>名人名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a0ebe"/>
                </a:solidFill>
                <a:latin typeface="宋体"/>
              </a:rPr>
              <a:t>话题讨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宋体"/>
                <a:ea typeface="华文行楷"/>
              </a:rPr>
              <a:t>我该怎么办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?</a:t>
            </a:r>
            <a:br>
              <a:rPr sz="3200"/>
            </a:b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a0ebe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0ebe"/>
                </a:solidFill>
                <a:latin typeface="宋体"/>
                <a:ea typeface="隶书"/>
              </a:rPr>
              <a:t>小华和妈妈约好周六去参观科技宫，这是他梦寐以求的愿望，心中异常高兴，走路来不是跳就是唱，今天，学校通知周六组织美化校园活动，要求各班学生无故不得请假，活动之后评选先进班级，小华听到通知后，心中七上八下，放弃参观不甘心，不参加学校活动又怕受到老师和同学们批评，一时不知如何是好，心里烦躁不安。</a:t>
            </a:r>
            <a:r>
              <a:rPr b="1" lang="zh-CN" sz="2800" spc="-1" strike="noStrike">
                <a:solidFill>
                  <a:srgbClr val="0a0ebe"/>
                </a:solidFill>
                <a:latin typeface="Times New Roman"/>
                <a:ea typeface="隶书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a0eb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a0ebe"/>
                </a:solidFill>
                <a:latin typeface="宋体"/>
                <a:ea typeface="隶书"/>
              </a:rPr>
              <a:t>周一升旗仪式上，同学们按统一要求穿上校服，唯独张小岩未穿校服，在全班整齐的队伍中格外引人注目。值勤老师给他所在的班级扣了</a:t>
            </a:r>
            <a:r>
              <a:rPr b="1" lang="en-US" sz="3600" spc="-1" strike="noStrike">
                <a:solidFill>
                  <a:srgbClr val="0a0ebe"/>
                </a:solidFill>
                <a:latin typeface="Times New Roman"/>
                <a:ea typeface="隶书"/>
              </a:rPr>
              <a:t>3</a:t>
            </a:r>
            <a:r>
              <a:rPr b="1" lang="zh-CN" sz="3600" spc="-1" strike="noStrike">
                <a:solidFill>
                  <a:srgbClr val="0a0ebe"/>
                </a:solidFill>
                <a:latin typeface="宋体"/>
                <a:ea typeface="隶书"/>
              </a:rPr>
              <a:t>分。事后，同学们批评他给班集体抹了黑，他还不服气说：</a:t>
            </a:r>
            <a:r>
              <a:rPr b="1" lang="zh-CN" sz="3600" spc="-1" strike="noStrike">
                <a:solidFill>
                  <a:srgbClr val="0a0ebe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a0ebe"/>
                </a:solidFill>
                <a:latin typeface="宋体"/>
                <a:ea typeface="隶书"/>
              </a:rPr>
              <a:t>我昨天晚上洗的校服没有干，怎么穿</a:t>
            </a:r>
            <a:r>
              <a:rPr b="1" lang="en-US" sz="3600" spc="-1" strike="noStrike">
                <a:solidFill>
                  <a:srgbClr val="0a0ebe"/>
                </a:solidFill>
                <a:latin typeface="Times New Roman"/>
                <a:ea typeface="隶书"/>
              </a:rPr>
              <a:t>?</a:t>
            </a:r>
            <a:r>
              <a:rPr b="1" lang="zh-CN" sz="3600" spc="-1" strike="noStrike">
                <a:solidFill>
                  <a:srgbClr val="0a0ebe"/>
                </a:solidFill>
                <a:latin typeface="宋体"/>
                <a:ea typeface="隶书"/>
              </a:rPr>
              <a:t>别的班不是也有没穿校服的吗</a:t>
            </a:r>
            <a:r>
              <a:rPr b="1" lang="en-US" sz="3600" spc="-1" strike="noStrike">
                <a:solidFill>
                  <a:srgbClr val="0a0ebe"/>
                </a:solidFill>
                <a:latin typeface="Times New Roman"/>
                <a:ea typeface="隶书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905120" y="533520"/>
            <a:ext cx="54385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他给集体带来了…… </a:t>
            </a:r>
            <a:endParaRPr b="0" lang="en-US" sz="44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 rot="5400000">
            <a:off x="-1603800" y="2594520"/>
            <a:ext cx="504180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黑体"/>
              </a:rPr>
              <a:t>身边的故事</a:t>
            </a:r>
            <a:endParaRPr b="1" lang="en-US" sz="4000" spc="1" strike="noStrike">
              <a:ln w="0">
                <a:noFill/>
              </a:ln>
              <a:solidFill>
                <a:srgbClr val="00ff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33720" y="380880"/>
            <a:ext cx="62481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华文彩云"/>
              </a:rPr>
              <a:t>这里有没有你？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华文彩云"/>
              <a:ea typeface="华文彩云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2133720"/>
            <a:ext cx="449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幼圆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幼圆"/>
              </a:rPr>
              <a:t>歧视同学甚至戏弄同学的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02800" y="2565360"/>
            <a:ext cx="368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ff0000"/>
                </a:solidFill>
                <a:latin typeface="Verdana"/>
                <a:ea typeface="幼圆"/>
              </a:rPr>
              <a:t>不关心集体甚至做出损害集体荣誉的事的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4080" y="1628640"/>
            <a:ext cx="368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3333cc"/>
                </a:solidFill>
                <a:latin typeface="Verdana"/>
                <a:ea typeface="幼圆"/>
              </a:rPr>
              <a:t>同学被老师表扬，不加以鼓励反而起哄的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0360" y="1125360"/>
            <a:ext cx="468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80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008000"/>
                </a:solidFill>
                <a:latin typeface="Verdana"/>
                <a:ea typeface="幼圆"/>
              </a:rPr>
              <a:t>本班同学参加比赛，在旁漠不关心甚至不想别人关心的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46720" y="2971800"/>
            <a:ext cx="385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99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cc0099"/>
                </a:solidFill>
                <a:latin typeface="Verdana"/>
                <a:ea typeface="幼圆"/>
              </a:rPr>
              <a:t>课堂上故意大声回答问题，影响别人听课的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342900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ff0000"/>
                </a:solidFill>
                <a:latin typeface="Verdana"/>
                <a:ea typeface="幼圆"/>
              </a:rPr>
              <a:t>做练习、作业时碰到难题时，不经思考就马上问同学，或干脆抄别人的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26708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幼圆"/>
              </a:rPr>
              <a:t>同学有不懂的问题请教你，不予理睬或干脆给作业本别人抄的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64600" y="5105520"/>
            <a:ext cx="485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990000"/>
                </a:solidFill>
                <a:latin typeface="Verdana"/>
                <a:ea typeface="幼圆"/>
              </a:rPr>
              <a:t>上课听不懂时，干脆不听了，讲小话、看课外书或睡觉的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38840" y="5638680"/>
            <a:ext cx="267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幼圆"/>
              </a:rPr>
              <a:t>被老师叫起来，一问三不知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95040" y="6126120"/>
            <a:ext cx="418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ff0000"/>
                </a:solidFill>
                <a:latin typeface="Verdana"/>
                <a:ea typeface="幼圆"/>
              </a:rPr>
              <a:t>课前来到不认真做作业，讲闲话甚至影响别人的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001000" y="990720"/>
            <a:ext cx="365760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要改正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 rot="5400000">
            <a:off x="-1603800" y="2594520"/>
            <a:ext cx="504180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黑体"/>
              </a:rPr>
              <a:t>身边的故事</a:t>
            </a:r>
            <a:endParaRPr b="1" lang="en-US" sz="4000" spc="1" strike="noStrike">
              <a:ln w="0">
                <a:noFill/>
              </a:ln>
              <a:solidFill>
                <a:srgbClr val="00ff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33720" y="380880"/>
            <a:ext cx="62481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华文彩云"/>
              </a:rPr>
              <a:t>这里有没有你？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华文彩云"/>
              <a:ea typeface="华文彩云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724280"/>
            <a:ext cx="701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336600"/>
                </a:solidFill>
                <a:latin typeface="Verdana"/>
                <a:ea typeface="幼圆"/>
              </a:rPr>
              <a:t>老师牺牲时间帮助你复习，你不但感激反而埋怨、不耐烦……</a:t>
            </a:r>
            <a:r>
              <a:rPr b="1" lang="en-US" sz="2200" spc="-1" strike="noStrike">
                <a:solidFill>
                  <a:srgbClr val="336600"/>
                </a:solidFill>
                <a:latin typeface="Verdana"/>
                <a:ea typeface="幼圆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1447920"/>
            <a:ext cx="523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99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cc0099"/>
                </a:solidFill>
                <a:latin typeface="Verdana"/>
                <a:ea typeface="幼圆"/>
              </a:rPr>
              <a:t>考砸了，就灰心丧气，不敢正视问题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198108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0000ff"/>
                </a:solidFill>
                <a:latin typeface="Verdana"/>
                <a:ea typeface="幼圆"/>
              </a:rPr>
              <a:t>明明是自己不努力，却总是找老师和父母的原因，就是不肯虚心接受批评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77320" y="5562720"/>
            <a:ext cx="7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ff00ff"/>
                </a:solidFill>
                <a:latin typeface="Verdana"/>
                <a:ea typeface="幼圆"/>
              </a:rPr>
              <a:t>肆意挥霍父母的血汗钱，一味追求物质享受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35268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080808"/>
                </a:solidFill>
                <a:latin typeface="Verdana"/>
                <a:ea typeface="幼圆"/>
              </a:rPr>
              <a:t>从不记得父母和老师给自己的爱，一旦师长疏忽，似乎全世界最可怜的人就是自己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86480" y="4191120"/>
            <a:ext cx="385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ff9900"/>
                </a:solidFill>
                <a:latin typeface="Verdana"/>
                <a:ea typeface="幼圆"/>
              </a:rPr>
              <a:t>浪费宝贵时间，来到学校只想着谈天讲笑话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14640" y="2819520"/>
            <a:ext cx="4520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ff0000"/>
                </a:solidFill>
                <a:latin typeface="Verdana"/>
                <a:ea typeface="幼圆"/>
              </a:rPr>
              <a:t>参加竞选落选了，就觉得自己总不如别人、不思进取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400800" y="-380880"/>
            <a:ext cx="365760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要改正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1981080"/>
            <a:ext cx="8229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勤奋，具体表现在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机智，具体表现在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爱心，具体表现在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勇敢，具体表现在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细致，具体表现在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谦和，具体表现在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韧劲，具体表现在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正直，具体表现在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609480"/>
            <a:ext cx="4038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华文中宋"/>
              </a:rPr>
              <a:t>在我们班，如果以欣赏的眼光看人，每个同学都有自身的长处，让我们在欣赏别人的同时，交流所获得的积极而丰富的情感体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867280" y="533520"/>
            <a:ext cx="2117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7057800" cy="4889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0" y="0"/>
            <a:ext cx="30481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仿宋_GB2312"/>
              </a:rPr>
              <a:t>音乐欣赏</a:t>
            </a:r>
            <a:endParaRPr b="1" lang="en-US" sz="60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仿宋_GB2312"/>
              <a:ea typeface="仿宋_GB2312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685440" y="357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835280" y="1628640"/>
            <a:ext cx="7057800" cy="489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835280" y="1557360"/>
            <a:ext cx="7057800" cy="5011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835280" y="1557360"/>
            <a:ext cx="7308720" cy="501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1835280" y="1628640"/>
            <a:ext cx="7308720" cy="489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1835280" y="1628640"/>
            <a:ext cx="7308720" cy="4969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1619280" y="1430280"/>
            <a:ext cx="7524720" cy="5167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1692360" y="1557360"/>
            <a:ext cx="7451640" cy="4937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1403280" y="1484280"/>
            <a:ext cx="7740720" cy="5113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1397160" y="1130400"/>
            <a:ext cx="7746840" cy="5608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1187280" y="1197000"/>
            <a:ext cx="7956720" cy="5532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1187280" y="1268280"/>
            <a:ext cx="7956720" cy="5589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203640" y="260280"/>
            <a:ext cx="56466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cap="sq" w="12600">
                  <a:solidFill>
                    <a:srgbClr val="80008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众人划浆开大船</a:t>
            </a:r>
            <a:endParaRPr b="1" lang="en-US" sz="6600" spc="1" strike="noStrike">
              <a:ln cap="sq" w="12600">
                <a:solidFill>
                  <a:srgbClr val="800080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908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1" presetSubtype="4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1" presetSubtype="8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7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4" presetSubtype="10">
                                  <p:stCondLst>
                                    <p:cond delay="90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4">
                                  <p:stCondLst>
                                    <p:cond delay="108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126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5">
                                  <p:stCondLst>
                                    <p:cond delay="144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16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1" presetSubtype="8">
                                  <p:stCondLst>
                                    <p:cond delay="180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1">
                                  <p:stCondLst>
                                    <p:cond delay="198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3168720"/>
            <a:ext cx="95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级宣言 </a:t>
            </a:r>
            <a:br>
              <a:rPr sz="64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环境优雅，秩序井然，纪律严谨。积极进取，团结友 爱， 乐于奉献。为创建进步和谐的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303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班而努力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52280"/>
            <a:ext cx="9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都在同一条船上，如果没有目标，任何风向都不是顺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981000"/>
            <a:ext cx="68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66"/>
                </a:solidFill>
                <a:latin typeface="方正舒体"/>
                <a:ea typeface="方正舒体"/>
              </a:rPr>
              <a:t>长风破浪应有时，直挂云帆济沧海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170960" y="533412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）强调全面发展，并且敢于创造，善于创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3860640"/>
            <a:ext cx="73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）相信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</a:rPr>
              <a:t>“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我们能行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，并努力争取达到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</a:rPr>
              <a:t>“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我们能行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</a:rPr>
              <a:t>"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266688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）尊重别人，承认差异，看到别人的长处，认识到自己的缺点，客观评价自己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1413000"/>
            <a:ext cx="70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）首先要消除歧视，学会尊重、互助、合作，共同进步，打好团结的基础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0880" y="0"/>
            <a:ext cx="237672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倡议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55640" y="1700280"/>
            <a:ext cx="7620120" cy="28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我尽我力为班添光彩！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2276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95280" y="260280"/>
            <a:ext cx="67057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540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希望</a:t>
            </a:r>
            <a:r>
              <a:rPr b="0" lang="en-US" sz="4800" spc="1" strike="noStrike">
                <a:ln w="540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303</a:t>
            </a:r>
            <a:r>
              <a:rPr b="0" lang="zh-CN" sz="4800" spc="1" strike="noStrike">
                <a:ln w="540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班的全体同学</a:t>
            </a:r>
            <a:endParaRPr b="0" lang="en-US" sz="4800" spc="1" strike="noStrike">
              <a:ln w="540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寓言故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一只狮子与三头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80000" y="2997360"/>
            <a:ext cx="2879640" cy="331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547640" y="3357720"/>
            <a:ext cx="2827440" cy="2582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-30492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3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16531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6531"/>
                </a:solidFill>
                <a:latin typeface="宋体"/>
              </a:rPr>
              <a:t>有三头公牛总是在一块吃草。一头狮子很想吃掉它们，可这三头公牛非常团结，一旦发生情况便互相合作，共同对敌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16531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6531"/>
                </a:solidFill>
                <a:latin typeface="宋体"/>
              </a:rPr>
              <a:t>为了吃这三头公牛，狮子绞尽脑汁，终于想出了一条诡计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16531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6531"/>
                </a:solidFill>
                <a:latin typeface="宋体"/>
              </a:rPr>
              <a:t>它先找到牛老大，对它说：“牛大哥呀，你这么聪明强壮，怎么能跟那两个蠢牛在一起呢？它们处处占你的便宜，你找到了嫩绿的草地，它们便毫无理由地吃。它们还在背后说了你许多坏话</a:t>
            </a:r>
            <a:r>
              <a:rPr b="1" lang="en-US" sz="3200" spc="-1" strike="noStrike">
                <a:solidFill>
                  <a:srgbClr val="316531"/>
                </a:solidFill>
                <a:latin typeface="宋体"/>
              </a:rPr>
              <a:t>……”</a:t>
            </a:r>
            <a:r>
              <a:rPr b="1" lang="zh-CN" sz="3200" spc="-1" strike="noStrike">
                <a:solidFill>
                  <a:srgbClr val="316531"/>
                </a:solidFill>
                <a:latin typeface="宋体"/>
              </a:rPr>
              <a:t>牛老大信以为真，很生气。狮子见到这种情形，暗暗高兴，便离开了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6531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6531"/>
                </a:solidFill>
                <a:latin typeface="宋体"/>
              </a:rPr>
              <a:t>它又找到了牛老二、牛老三，对它们说了同样的话，牛老二、牛老三也相信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6531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6531"/>
                </a:solidFill>
                <a:latin typeface="宋体"/>
              </a:rPr>
              <a:t>早晨，这三头公牛都绷着脸，各自只顾自己，分散吃草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6531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6531"/>
                </a:solidFill>
                <a:latin typeface="宋体"/>
              </a:rPr>
              <a:t>狮子一看机会来了，找到了牛老三，把牛老三咬死了，美美地吃了一顿。它决定第二天再去吃那两头笨牛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6531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6531"/>
                </a:solidFill>
                <a:latin typeface="宋体"/>
              </a:rPr>
              <a:t>然而，这个消息传到了另外两头公牛的耳朵里，它们这才醒悟过来，决定团结起来，打败狮子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826560" y="549000"/>
            <a:ext cx="762012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1cbd0b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cbd0b"/>
                </a:solidFill>
                <a:latin typeface="宋体"/>
              </a:rPr>
              <a:t>第二天，狮子刚走进草地，牛老大、牛老二齐心协力向狮子扑去，终于赶走了狮子。</a:t>
            </a:r>
            <a:r>
              <a:rPr b="1" lang="zh-CN" sz="4400" spc="-1" strike="noStrike">
                <a:solidFill>
                  <a:srgbClr val="1cbd0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2193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640080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团结就是力量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团结才能胜利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a0ebe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a0ebe"/>
                </a:solidFill>
                <a:latin typeface="宋体"/>
              </a:rPr>
              <a:t>每一个人都要生活在集体之中，无论是学习，工作、生活、娱乐，每个人都离不开与他人的接触与合作。个人与集体，就像鱼儿离不开水，鸟儿离不开林一样。</a:t>
            </a:r>
            <a:r>
              <a:rPr b="1" lang="zh-CN" sz="3600" spc="-1" strike="noStrike">
                <a:solidFill>
                  <a:srgbClr val="0a0ebe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00240" y="762120"/>
            <a:ext cx="49435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cap="sq" w="12600">
                  <a:solidFill>
                    <a:srgbClr val="00ff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演讲：集体是纽带 </a:t>
            </a:r>
            <a:endParaRPr b="1" lang="en-US" sz="4400" spc="1" strike="noStrike">
              <a:ln cap="sq" w="12600">
                <a:solidFill>
                  <a:srgbClr val="00ff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371240" y="45684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a0ebe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0ebe"/>
                </a:solidFill>
                <a:latin typeface="宋体"/>
              </a:rPr>
              <a:t>一个人的智慧和力量是有限的。但是，如果把个人的智慧和力量融入集体之中，就会变成取之不尽，用之不竭的集体智慧和力量；创造出非凡的成就。不积跬步，无以至千里，不积小流，无以成江海。让我们每个人从我做起，从身边的小事做起。用拳拳之心报答温馨、可爱的集体：让我们从现在做起，从自己做起，为建设大大小小的集体添砖加瓦，把个人的精力和聪明才智，融汇在集体的事业中，为祖国、为人民作出自己的贡献吧</a:t>
            </a:r>
            <a:r>
              <a:rPr b="1" lang="en-US" sz="3200" spc="-1" strike="noStrike">
                <a:solidFill>
                  <a:srgbClr val="0a0ebe"/>
                </a:solidFill>
                <a:latin typeface="Times New Roman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4T02:31:14Z</dcterms:modified>
  <cp:revision>1</cp:revision>
  <dc:subject/>
  <dc:title>幻灯片 1</dc:title>
</cp:coreProperties>
</file>